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8F5-B6E7-441F-945D-95D133AE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84E-096A-43F7-9F0C-0B2F524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446-852A-4302-889E-ECF598BC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97A-0745-4515-B3DE-7321EBE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B09-CE5C-49BC-A5D7-1979337B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C37-4F19-437A-A3EC-E48F9D10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7F5-B8F6-4DB3-907D-398A4891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55A6-6FED-4B2F-8F15-40270FC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046D-76D2-4127-A570-BFE7EF1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EFDD-A38A-4572-BE5D-963445D7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DA7-72A3-40C3-9D1E-52601885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60E-C2A3-442C-B451-C47B14F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FE0-A548-4328-809B-8A345EB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781F-0AB6-42EF-B6FE-C65FC9E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53C1-43D9-4DCE-B8E8-CE63F55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A738-75A7-4E21-A316-2A9F01F8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AD53-B930-4029-9ABF-DCF290B7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8DB-5A17-4FEA-B72F-F3FE2D3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533-7FBE-4F90-AB12-02D864F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45D-185A-4AFA-B417-C26991A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18B-7154-4A49-9787-F2E27E2D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89C-D995-4677-9EE2-C139B049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301-ABD7-419B-A9AE-B68DEC8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65F-41D1-45AF-B56B-75808A54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B356-5382-4613-9DD3-B6306D750B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4FD-AEF6-4073-9CA9-414A97CAF3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y house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4-@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ury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sofa next to the tabl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n armchair in the left corner and a big TV next to the window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241520" cy="475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03280" y="45720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living roo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5181840" cy="3538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4640" y="137160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big bed in the middle of the roo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shelf next to the be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big wardrobe in the bedroo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0"/>
          <p:cNvSpPr/>
          <p:nvPr/>
        </p:nvSpPr>
        <p:spPr>
          <a:xfrm flipV="1">
            <a:off x="4289400" y="3613320"/>
            <a:ext cx="1959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bedroo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 table next to the chai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 lamps above the t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microw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ven and a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refrigerat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left corne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only one window  in the kitch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17640" y="35568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kitch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rdrob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for clot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wa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carpet on the floo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f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floo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pictu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the wal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80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h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уемые ресурсы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ww. images.yandex. 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M</cp:lastModifiedBy>
  <dcterms:modified xsi:type="dcterms:W3CDTF">2011-12-19T11:31:3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